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png" ContentType="image/png"/>
  <Override PartName="/ppt/media/image33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DBA4-108D-406A-B63D-051392C972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D8DB-F007-4D0A-85F5-92A84A2F29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2791-5CF9-47C0-8D76-E03A0821C8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8C35-05D3-442C-8A08-5173F495ED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C1C5-4D8C-4D0F-903D-A02AE07081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7264-3F75-4646-B5A5-200AB8DC02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AE4B-56B9-4414-A2BE-8BC7BE70A4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F464-37CE-42B9-A52C-824A8D9F14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9715-3456-49AB-8726-23A00419AF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26C6-45F5-4F22-9AA2-D5598475CD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5808-7029-411D-A388-6382BEC060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079-9418-43AC-AE46-C9F35719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524-2E36-4FE0-A54B-027A131B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CABB1-658D-4EF1-B21E-24106417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009F5-F4F5-4079-B3EE-90C6943B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D0674-B560-4E00-A507-A17D385E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E9C5C-2778-4E26-9080-60B49BC1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77961-1FF4-4A6B-B0D1-C0ECB7E7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05ED6-922C-4DD4-AFF8-D4B27FE0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4AB3F-5747-475B-B1B0-0F5E4C52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2437B-ED4E-493F-B1F1-3C456BAC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9140F-EB0C-4311-AA1E-6BE0C439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4BDD5-BF53-4529-B827-DEAF6CB3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074E-C8F9-4465-8591-C3006FE0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010925-9CF3-4D09-AE7D-13BA73A9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34FFC-426E-42B2-A337-B50A79DD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B4264-12DA-40C8-8B9D-0EA8F3E4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2F9EA-92FE-4027-A9AB-620C0A99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99EE1-3766-4B25-9579-1307F3EF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009C0-EF9B-4060-9915-ECBFEA28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08831-6584-4B5E-93F2-75EFCA1D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C312D-D493-4F70-B74D-07444104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3A1656-9FC7-436E-8595-AE41931E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77240-5F73-4FC3-8440-9394759C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779-F851-4CEC-95E4-3B82606D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69DB1-E3E3-4C8B-B1FF-F3C2452C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C9409-0993-49E4-8B6C-865AF2A2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D327D-48F9-4105-8DEC-6BE67912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1C187-4901-4385-B0D9-7F1E794C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F787A-BFB8-4E4A-9B62-97789FE4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EBFC5-EF6C-4052-B618-3BB3DEC1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DFE15-F86E-42E6-82B5-7763C5B3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112D9-C86D-4E7E-8026-B673624A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C0244-9AA2-4CB5-9C23-E21ED3AE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06FAE-FFF9-478B-8AB0-6740835A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2085-E2A4-47CB-8E11-17975FE1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EC36A-1890-496E-8555-5C9D4FEB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DA859-6629-4238-B036-61F0F70C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AC7C6-5E60-4D2F-A0B8-56ED4CE6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4F09E-EF1B-41F4-B289-4FBC2B19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17A06-4BC4-48F3-A395-04C158B0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12DAE-7EB8-43F9-AC04-F5AA8489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7A685-0B83-4B6C-A97B-F7F725DF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DFBAA-0B23-48E3-BCBB-F42855DF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FB652-33A1-4427-A54C-77E92C6A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DAA49-A92C-43E9-9C83-9F23A2D8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7996-739F-4283-9737-C77D76DA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FFD07-CA8D-4653-ACAD-CFD62854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B7E558-9DBA-4456-937B-471F038A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B71E4-58CC-471D-92E7-30A2A673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F7456-CFFA-40E6-97D2-64EBF9F8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51352-CDF6-4331-933D-EFA72BEB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0B4D-24DC-4054-A499-1418C1C9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5083-6961-4DDB-BFE5-711FAE71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6977-EC7E-4B60-A285-3D4D62BC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85FE-10C0-4E84-B210-B96495D5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82A5-D245-4715-97A0-C2A390EF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0D7-4D8E-4A07-AEF1-B2B853BF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B9A1-EEB0-42C7-865B-E05D8A37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02D5-3B59-41A7-BC7C-A80AC8B1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2DDE-68AC-4BF2-BF20-D64622D0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A094-FD08-43C1-A81B-95F7D654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7035-BCED-4428-AA4F-017472A3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990B0-A819-44BB-99F3-D922087E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43FDF-799D-4931-86DD-1A5E53BF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BF6BF-5BAE-4F38-9198-075F2A53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037BB-F474-4D13-885D-12683738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01F83-83BD-41BB-B5B3-1DBEEC85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57E-6DC5-4B67-BBE2-F1E46FB8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35930-2C20-403C-8EBA-590CDF8D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899F7-5BEC-4C81-8AE6-AF470D80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7E09A-3D85-45A2-9BF2-5FE516A1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CF86E-51D7-4AB2-B2E4-19FEF8BC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9400-532B-4DDE-ADBA-8AC1E4A2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A41A9-ECFD-46FC-BD90-7739B815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44C57-02B3-40C6-8B89-41879B24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C768E-8860-4D2B-91CB-8B0CE761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36FC-7160-469D-9B35-4BE4F291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8235F-FC57-4247-B5F8-7BDCFEF0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157-F305-4E26-B6D2-78751C47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95908-9591-4FD1-AC86-68EA9043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22638-1850-41FA-8AAD-9D8B6D4C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982CF-6073-475D-A441-7E9639B5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EDF51-4DCD-45E3-8046-D62044F6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93990-EA03-4672-B806-163ABE89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7E2C9-189E-4665-9795-D3527EBA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65CB8-4562-453C-8368-1787DC0A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3852A-960C-4C11-9CC7-B86E9C87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8FD44-26F0-4F20-BBC0-D10BEB29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0DC47-DCE0-43F9-8CDA-52369965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78B-8A7C-4C5E-9F25-CD443CAA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897FA-2F59-4E09-8D8E-9F11BAA7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6BE91-5162-4935-9F73-466872A6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05AF2-3E4A-474B-B2DA-34163FB2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63073-5A25-437B-9DBB-BFB056F5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FBD0C-9A9A-4C2D-B904-9B6D6A34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30726-EC83-4B85-8A81-34D47BCD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B53C2-FB6F-4D99-8FCF-800E802E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F0CE1-739C-4633-94E2-D78E8C7C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468F6-C914-47D6-A851-3641FCF6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E0548-4F34-4F21-98A5-4C572075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BD8-D39E-473B-B874-776CEFFD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8E4B1-672D-4951-9058-7581F8EC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0FC2D-D369-404A-ACD9-53F2CD7C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D2493-D618-4901-80C9-B25AF169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EE0C5-B0B3-4525-802E-3E74083B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05CC7-F77B-4E67-B15D-A295C050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D29A1-F7FE-48AE-A795-BD701822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9B836-21EF-4C36-80BB-DB03053E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C1EE3-BB51-4F4D-8C25-67C9C6B1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E1661-0DD2-4B89-98D3-1FB9BC07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A6E5F-B92B-45E3-9749-1874C01A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BB5-F81C-4E34-90EF-CC418693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A9C8E-D664-4E40-85A2-0909E99D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77A05-9B2F-4A0C-87DF-0C43CA9A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09F73-CC9D-4ED8-B28B-64732E4B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068EC-1F72-49F1-82F7-4E673B92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F82B1-0576-4948-BC91-D6D76EAD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D2D67-A4F9-43A9-BC21-4B09F1C8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9522D-628F-433A-93A5-75AC8D7B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66406-EF4A-43E5-9668-8DB33D20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3F4C6-DDAF-4797-95DF-66B5202E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DBCDA-BE91-4ED0-83A6-C81A67A4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FCF-9C95-4B49-BAFD-AE4D5A50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BE28E-C133-4646-9299-51218EBD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2F5D7-A9B4-4A4E-B81B-0C919FDA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E3D30-98A4-420F-98D9-9CBF7D1B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ECA37-53AC-48BA-940B-7969193E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8A089-5002-4567-BA70-69F33BEC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FEC07-AB6A-4AB6-96F3-EFF310E3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09351-9CF5-4BE8-840A-F846016B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162D1-A888-4E4F-B6DB-88D860A6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6C922-6B00-4994-BA5E-B4715742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6683B-38A1-4F2B-8E4A-A0D2254C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C4D-BAAB-441C-A315-747D94CB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8BA0A-B4F1-4936-B5A1-EF3B20E2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15AD9-C36F-46BB-A763-DEF9640F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1F501-F280-4CE6-B1C9-3D690423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8DC3B-8473-4252-98BD-0491505C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1A396-1ADF-44F9-8D88-C95E054D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CD2AB-BCE0-4874-B7B5-7F5BE7B3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F4FCB-4831-4745-AFE9-362BA855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53379-5D85-480A-BB3D-A4704253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5F399-EA24-4ACB-88C3-929B9DA7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51C9C-E722-4E06-AE10-2775A5E9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7FE3-D108-4D59-B714-D68678E0878E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Connecteur droit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Ellipse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lipse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2F82-B2CE-46AC-BC92-91644FB6B076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B654-F9A2-4102-8249-886BF49CC475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onnecteur droit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llipse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Ellipse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6E66-E650-4631-A622-BFA5FFB81218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cteur droit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91B7-68AC-480F-887B-22351632A1FF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7C6F-2383-4877-8FB9-4BDEEE4E3ECF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necteur droit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57D5-DE62-4C68-8CDF-7B071A40BDB7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nnecteur droit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3790-75D7-4EAC-A689-03BB6612724A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onnecteur droit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necteur droit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llipse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llipse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90B7-80E7-433F-B681-E429AE16CB09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7F24-0FD8-4909-BF8D-814E6C8A597D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3611-E46B-4E6A-8CAE-25F47BA851C4}" type="slidenum">
              <a:rPr b="0" lang="fr-FR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necteur droit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llipse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llipse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D7D3-FC8C-4E21-BCCC-7826FD9C8B4C}" type="slidenum">
              <a:rPr b="0" lang="fr-FR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0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Sous-titre 2"/>
          <p:cNvGrpSpPr/>
          <p:nvPr/>
        </p:nvGrpSpPr>
        <p:grpSpPr>
          <a:xfrm>
            <a:off x="1279440" y="2719440"/>
            <a:ext cx="6559560" cy="1908000"/>
            <a:chOff x="1279440" y="2719440"/>
            <a:chExt cx="6559560" cy="1908000"/>
          </a:xfrm>
        </p:grpSpPr>
        <p:pic>
          <p:nvPicPr>
            <p:cNvPr id="614" name="Sous-titre 2" descr=""/>
            <p:cNvPicPr/>
            <p:nvPr/>
          </p:nvPicPr>
          <p:blipFill>
            <a:blip r:embed="rId1"/>
            <a:stretch/>
          </p:blipFill>
          <p:spPr>
            <a:xfrm>
              <a:off x="1279440" y="2719440"/>
              <a:ext cx="655956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371600" y="281952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Titre 1" descr=""/>
          <p:cNvPicPr/>
          <p:nvPr/>
        </p:nvPicPr>
        <p:blipFill>
          <a:blip r:embed="rId2"/>
          <a:stretch/>
        </p:blipFill>
        <p:spPr>
          <a:xfrm>
            <a:off x="1805040" y="-1054080"/>
            <a:ext cx="5529240" cy="46195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" descr=""/>
          <p:cNvPicPr/>
          <p:nvPr/>
        </p:nvPicPr>
        <p:blipFill>
          <a:blip r:embed="rId3"/>
          <a:stretch/>
        </p:blipFill>
        <p:spPr>
          <a:xfrm>
            <a:off x="4071960" y="3429000"/>
            <a:ext cx="990720" cy="113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d16349"/>
                </a:solidFill>
                <a:latin typeface="Georgia"/>
              </a:rPr>
              <a:t>On mange beaucoup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0" name="Image 4" descr="C:\Users\martine\Documents\Martine\Mes images\Noel 2007\DSCF4308.JPG"/>
          <p:cNvPicPr/>
          <p:nvPr/>
        </p:nvPicPr>
        <p:blipFill>
          <a:blip r:embed="rId1"/>
          <a:stretch/>
        </p:blipFill>
        <p:spPr>
          <a:xfrm>
            <a:off x="1547640" y="2637000"/>
            <a:ext cx="626436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57120" y="150012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Au début de décembre</a:t>
            </a:r>
            <a:br>
              <a:rPr sz="3300"/>
            </a:b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2643120" y="285840"/>
            <a:ext cx="1714680" cy="8985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"/>
          <p:cNvPicPr/>
          <p:nvPr/>
        </p:nvPicPr>
        <p:blipFill>
          <a:blip r:embed="rId2"/>
          <a:stretch/>
        </p:blipFill>
        <p:spPr>
          <a:xfrm>
            <a:off x="1571760" y="457200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3"/>
          <a:stretch/>
        </p:blipFill>
        <p:spPr>
          <a:xfrm>
            <a:off x="6643800" y="285840"/>
            <a:ext cx="1361880" cy="9046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"/>
          <p:cNvPicPr/>
          <p:nvPr/>
        </p:nvPicPr>
        <p:blipFill>
          <a:blip r:embed="rId4"/>
          <a:stretch/>
        </p:blipFill>
        <p:spPr>
          <a:xfrm>
            <a:off x="571680" y="357120"/>
            <a:ext cx="1104840" cy="8287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"/>
          <p:cNvPicPr/>
          <p:nvPr/>
        </p:nvPicPr>
        <p:blipFill>
          <a:blip r:embed="rId5"/>
          <a:stretch/>
        </p:blipFill>
        <p:spPr>
          <a:xfrm>
            <a:off x="6286680" y="4572000"/>
            <a:ext cx="923760" cy="1238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Georgia"/>
              </a:rPr>
              <a:t>Pour Saint Nicolas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ffffff"/>
              </a:solidFill>
              <a:latin typeface="Brush Script MT"/>
            </a:endParaRPr>
          </a:p>
        </p:txBody>
      </p:sp>
      <p:pic>
        <p:nvPicPr>
          <p:cNvPr id="626" name="Picture 3" descr=""/>
          <p:cNvPicPr/>
          <p:nvPr/>
        </p:nvPicPr>
        <p:blipFill>
          <a:blip r:embed="rId1"/>
          <a:stretch/>
        </p:blipFill>
        <p:spPr>
          <a:xfrm>
            <a:off x="5396040" y="2676600"/>
            <a:ext cx="1095120" cy="14288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"/>
          <p:cNvPicPr/>
          <p:nvPr/>
        </p:nvPicPr>
        <p:blipFill>
          <a:blip r:embed="rId2"/>
          <a:stretch/>
        </p:blipFill>
        <p:spPr>
          <a:xfrm>
            <a:off x="3857760" y="2143080"/>
            <a:ext cx="1390680" cy="1357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" descr=""/>
          <p:cNvPicPr/>
          <p:nvPr/>
        </p:nvPicPr>
        <p:blipFill>
          <a:blip r:embed="rId3"/>
          <a:stretch/>
        </p:blipFill>
        <p:spPr>
          <a:xfrm>
            <a:off x="539640" y="2060640"/>
            <a:ext cx="2087640" cy="1655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txBody>
          <a:bodyPr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Georgia"/>
              </a:rPr>
              <a:t>À Grenob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À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fr-FR" sz="2000" spc="-1" strike="noStrike">
                <a:solidFill>
                  <a:srgbClr val="ffffff"/>
                </a:solidFill>
                <a:latin typeface="Georgia"/>
              </a:rPr>
              <a:t>trasbour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2085840" y="3114720"/>
            <a:ext cx="1343160" cy="18651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"/>
          <p:cNvPicPr/>
          <p:nvPr/>
        </p:nvPicPr>
        <p:blipFill>
          <a:blip r:embed="rId2"/>
          <a:stretch/>
        </p:blipFill>
        <p:spPr>
          <a:xfrm>
            <a:off x="5951520" y="3214800"/>
            <a:ext cx="2549520" cy="169848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Marchés de Noël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46b86"/>
                </a:solidFill>
                <a:latin typeface="Georgia"/>
              </a:rPr>
              <a:t>décoration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Freestyle Script"/>
              </a:rPr>
              <a:t>A lot of families decorate their houses but it’s not alwways beautifu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4214880" y="1144440"/>
            <a:ext cx="1466640" cy="19512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"/>
          <p:cNvPicPr/>
          <p:nvPr/>
        </p:nvPicPr>
        <p:blipFill>
          <a:blip r:embed="rId2"/>
          <a:stretch/>
        </p:blipFill>
        <p:spPr>
          <a:xfrm>
            <a:off x="4071960" y="3143160"/>
            <a:ext cx="1763640" cy="13194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"/>
          <p:cNvPicPr/>
          <p:nvPr/>
        </p:nvPicPr>
        <p:blipFill>
          <a:blip r:embed="rId3"/>
          <a:stretch/>
        </p:blipFill>
        <p:spPr>
          <a:xfrm>
            <a:off x="5929200" y="1785960"/>
            <a:ext cx="1714680" cy="12826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4"/>
          <a:srcRect l="0" t="1527" r="0" b="1527"/>
          <a:stretch/>
        </p:blipFill>
        <p:spPr>
          <a:xfrm>
            <a:off x="179280" y="1052640"/>
            <a:ext cx="2786040" cy="20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287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Le sapin de Noë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Picture 2" descr=""/>
          <p:cNvPicPr/>
          <p:nvPr/>
        </p:nvPicPr>
        <p:blipFill>
          <a:blip r:embed="rId1"/>
          <a:stretch/>
        </p:blipFill>
        <p:spPr>
          <a:xfrm>
            <a:off x="2500200" y="3714840"/>
            <a:ext cx="981360" cy="13050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" descr=""/>
          <p:cNvPicPr/>
          <p:nvPr/>
        </p:nvPicPr>
        <p:blipFill>
          <a:blip r:embed="rId2"/>
          <a:stretch/>
        </p:blipFill>
        <p:spPr>
          <a:xfrm>
            <a:off x="928800" y="2500200"/>
            <a:ext cx="1181160" cy="11718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"/>
          <p:cNvPicPr/>
          <p:nvPr/>
        </p:nvPicPr>
        <p:blipFill>
          <a:blip r:embed="rId3"/>
          <a:stretch/>
        </p:blipFill>
        <p:spPr>
          <a:xfrm>
            <a:off x="4114800" y="2790720"/>
            <a:ext cx="914400" cy="12765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"/>
          <p:cNvPicPr/>
          <p:nvPr/>
        </p:nvPicPr>
        <p:blipFill>
          <a:blip r:embed="rId4"/>
          <a:stretch/>
        </p:blipFill>
        <p:spPr>
          <a:xfrm>
            <a:off x="6858000" y="2643120"/>
            <a:ext cx="971640" cy="12859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"/>
          <p:cNvPicPr/>
          <p:nvPr/>
        </p:nvPicPr>
        <p:blipFill>
          <a:blip r:embed="rId5"/>
          <a:stretch/>
        </p:blipFill>
        <p:spPr>
          <a:xfrm>
            <a:off x="5786280" y="4214880"/>
            <a:ext cx="107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La nuit du 24 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571680" y="2143080"/>
            <a:ext cx="2076120" cy="1571760"/>
          </a:xfrm>
          <a:prstGeom prst="rect">
            <a:avLst/>
          </a:prstGeom>
          <a:ln w="0">
            <a:noFill/>
          </a:ln>
        </p:spPr>
      </p:pic>
      <p:pic>
        <p:nvPicPr>
          <p:cNvPr id="648" name="Image 5" descr="C:\Users\martine\Documents\Martine\Mes images\décembre 2006\Noel 2006 080.jpg"/>
          <p:cNvPicPr/>
          <p:nvPr/>
        </p:nvPicPr>
        <p:blipFill>
          <a:blip r:embed="rId2"/>
          <a:stretch/>
        </p:blipFill>
        <p:spPr>
          <a:xfrm>
            <a:off x="3486240" y="2786040"/>
            <a:ext cx="35859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C:\Users\martine\Documents\Martine\Mes images\Noel 2007\DSCF4304.JPG"/>
          <p:cNvPicPr/>
          <p:nvPr/>
        </p:nvPicPr>
        <p:blipFill>
          <a:blip r:embed="rId1"/>
          <a:stretch/>
        </p:blipFill>
        <p:spPr>
          <a:xfrm>
            <a:off x="-8839080" y="-6667560"/>
            <a:ext cx="26822160" cy="2019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Réveillon en famil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2663640" cy="2089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"/>
          <p:cNvPicPr/>
          <p:nvPr/>
        </p:nvPicPr>
        <p:blipFill>
          <a:blip r:embed="rId2"/>
          <a:stretch/>
        </p:blipFill>
        <p:spPr>
          <a:xfrm>
            <a:off x="743040" y="25002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"/>
          <p:cNvPicPr/>
          <p:nvPr/>
        </p:nvPicPr>
        <p:blipFill>
          <a:blip r:embed="rId3"/>
          <a:stretch/>
        </p:blipFill>
        <p:spPr>
          <a:xfrm>
            <a:off x="5857920" y="2143080"/>
            <a:ext cx="1800360" cy="13572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"/>
          <p:cNvPicPr/>
          <p:nvPr/>
        </p:nvPicPr>
        <p:blipFill>
          <a:blip r:embed="rId4"/>
          <a:stretch/>
        </p:blipFill>
        <p:spPr>
          <a:xfrm>
            <a:off x="2000160" y="3643200"/>
            <a:ext cx="1830600" cy="12146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" descr=""/>
          <p:cNvPicPr/>
          <p:nvPr/>
        </p:nvPicPr>
        <p:blipFill>
          <a:blip r:embed="rId5"/>
          <a:stretch/>
        </p:blipFill>
        <p:spPr>
          <a:xfrm>
            <a:off x="6000840" y="3929040"/>
            <a:ext cx="1342800" cy="13431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7" descr=""/>
          <p:cNvPicPr/>
          <p:nvPr/>
        </p:nvPicPr>
        <p:blipFill>
          <a:blip r:embed="rId6"/>
          <a:stretch/>
        </p:blipFill>
        <p:spPr>
          <a:xfrm>
            <a:off x="3714840" y="392904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8" descr=""/>
          <p:cNvPicPr/>
          <p:nvPr/>
        </p:nvPicPr>
        <p:blipFill>
          <a:blip r:embed="rId7"/>
          <a:stretch/>
        </p:blipFill>
        <p:spPr>
          <a:xfrm>
            <a:off x="857160" y="4357800"/>
            <a:ext cx="1509840" cy="1509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3:56:58Z</dcterms:created>
  <dc:creator>martine</dc:creator>
  <dc:description/>
  <dc:language>en-US</dc:language>
  <cp:lastModifiedBy>Nicolas</cp:lastModifiedBy>
  <dcterms:modified xsi:type="dcterms:W3CDTF">2011-01-26T21:34:38Z</dcterms:modified>
  <cp:revision>3</cp:revision>
  <dc:subject/>
  <dc:title>Noël en France</dc:title>
</cp:coreProperties>
</file>